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9.gif" ContentType="image/gif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2D40-54D5-4E2E-9A9F-75AB62A006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54FF-E6F5-4743-8369-66F69E313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лывают по щел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6246-5BCF-47CE-8746-EA1BF2984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уть на ответ и вставить,молод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44DD-0E47-431B-9DB6-36990AE15B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15A8-00BD-47C1-AE24-216A52D86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CC4D-702A-491B-949F-E6DF5C5E7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11D5-5B20-4B77-85D4-A0028705D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B29B-C6E8-474B-96ED-3DD90DE718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5CA0-D348-48F2-A3DA-254EB81C5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D94-C2FF-41F4-B243-21B0C57D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BAE-0F26-42BD-A90E-B4E3178A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F23-B89A-47A2-B97B-70DA8300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C17-46CE-48E1-A03B-1FE81979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256-B3DA-4147-9489-49502E3E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DFC-808F-43D2-9773-5E778F3D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F53-4FB6-4408-A752-80702F46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A2C-DE24-457F-9F7B-C3EE61D6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036-1016-4751-AD87-A0BEEB19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28B-5994-4D38-85E8-98CF1FDE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0D8-B7E5-4073-B105-2F619810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5BB-EDAF-40E2-BB64-59EBBAF5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96AA-656D-42B7-A361-014025A65FF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360" y="43920"/>
            <a:ext cx="910908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Ближайшая к Земле звезда  солнц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Наша планета окружена атмосферо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Земля состоит из ядра ,  мантии , кор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На поверхности Земли много   вод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Все тела, находящиеся на Земле состоят из веществ  , которые образованы            молекулами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ятно 1 3"/>
          <p:cNvSpPr/>
          <p:nvPr/>
        </p:nvSpPr>
        <p:spPr>
          <a:xfrm>
            <a:off x="5364000" y="44280"/>
            <a:ext cx="2016360" cy="72072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Блок-схема: решение 4"/>
          <p:cNvSpPr/>
          <p:nvPr/>
        </p:nvSpPr>
        <p:spPr>
          <a:xfrm>
            <a:off x="4788000" y="1197000"/>
            <a:ext cx="3097080" cy="863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Облако 5"/>
          <p:cNvSpPr/>
          <p:nvPr/>
        </p:nvSpPr>
        <p:spPr>
          <a:xfrm>
            <a:off x="3564000" y="2637000"/>
            <a:ext cx="1079280" cy="287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1f497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Облако 6"/>
          <p:cNvSpPr/>
          <p:nvPr/>
        </p:nvSpPr>
        <p:spPr>
          <a:xfrm>
            <a:off x="4716360" y="2565360"/>
            <a:ext cx="1727280" cy="432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1f497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Облако 7"/>
          <p:cNvSpPr/>
          <p:nvPr/>
        </p:nvSpPr>
        <p:spPr>
          <a:xfrm>
            <a:off x="6516720" y="2565360"/>
            <a:ext cx="1079640" cy="432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1f497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Солнце 8"/>
          <p:cNvSpPr/>
          <p:nvPr/>
        </p:nvSpPr>
        <p:spPr>
          <a:xfrm>
            <a:off x="5580000" y="3573360"/>
            <a:ext cx="1871640" cy="863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7-конечная звезда 10"/>
          <p:cNvSpPr/>
          <p:nvPr/>
        </p:nvSpPr>
        <p:spPr>
          <a:xfrm>
            <a:off x="324000" y="5373720"/>
            <a:ext cx="1944360" cy="647640"/>
          </a:xfrm>
          <a:custGeom>
            <a:avLst/>
            <a:gdLst/>
            <a:ahLst/>
            <a:rect l="l" t="t" r="r" b="b"/>
            <a:pathLst>
              <a:path w="1944216" h="648072">
                <a:moveTo>
                  <a:pt x="-5" y="416779"/>
                </a:moveTo>
                <a:lnTo>
                  <a:pt x="299386" y="288421"/>
                </a:lnTo>
                <a:lnTo>
                  <a:pt x="192537" y="128359"/>
                </a:lnTo>
                <a:lnTo>
                  <a:pt x="672722" y="128359"/>
                </a:lnTo>
                <a:lnTo>
                  <a:pt x="972108" y="0"/>
                </a:lnTo>
                <a:lnTo>
                  <a:pt x="1271494" y="128359"/>
                </a:lnTo>
                <a:lnTo>
                  <a:pt x="1751679" y="128359"/>
                </a:lnTo>
                <a:lnTo>
                  <a:pt x="1644830" y="288421"/>
                </a:lnTo>
                <a:lnTo>
                  <a:pt x="1944221" y="416779"/>
                </a:lnTo>
                <a:lnTo>
                  <a:pt x="1511587" y="488013"/>
                </a:lnTo>
                <a:lnTo>
                  <a:pt x="1404734" y="648075"/>
                </a:lnTo>
                <a:lnTo>
                  <a:pt x="972108" y="576841"/>
                </a:lnTo>
                <a:lnTo>
                  <a:pt x="539482" y="648075"/>
                </a:lnTo>
                <a:lnTo>
                  <a:pt x="432629" y="488013"/>
                </a:lnTo>
                <a:lnTo>
                  <a:pt x="-5" y="41677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468360" y="6093000"/>
            <a:ext cx="2519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Царства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55280" y="20034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Вирус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Бактери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Гриб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Растени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животные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6703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рганизм состоит из орг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0012-012-Vnutrennee-stroenie-cheloveka"/>
          <p:cNvPicPr/>
          <p:nvPr/>
        </p:nvPicPr>
        <p:blipFill>
          <a:blip r:embed="rId1"/>
          <a:stretch/>
        </p:blipFill>
        <p:spPr>
          <a:xfrm>
            <a:off x="576360" y="765000"/>
            <a:ext cx="8099280" cy="60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1.Кровеносна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2. Дыхательная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3. Нервная систем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" descr="blsys1"/>
          <p:cNvPicPr/>
          <p:nvPr/>
        </p:nvPicPr>
        <p:blipFill>
          <a:blip r:embed="rId1"/>
          <a:stretch/>
        </p:blipFill>
        <p:spPr>
          <a:xfrm>
            <a:off x="179280" y="1773360"/>
            <a:ext cx="2071800" cy="482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Nd9GcRKjF308yQpOaCXW28SEDw4XeAkVM8T10XOOz49Adj-n6-WyLW-9g"/>
          <p:cNvPicPr/>
          <p:nvPr/>
        </p:nvPicPr>
        <p:blipFill>
          <a:blip r:embed="rId2"/>
          <a:stretch/>
        </p:blipFill>
        <p:spPr>
          <a:xfrm>
            <a:off x="2771640" y="2349360"/>
            <a:ext cx="2640240" cy="4106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52_1"/>
          <p:cNvPicPr/>
          <p:nvPr/>
        </p:nvPicPr>
        <p:blipFill>
          <a:blip r:embed="rId3"/>
          <a:stretch/>
        </p:blipFill>
        <p:spPr>
          <a:xfrm>
            <a:off x="6084720" y="2060640"/>
            <a:ext cx="2597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Пищеварительна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выделительна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опорно-двигательная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7" descr="ANd9GcRx2IihVSjZ5ZtOEgcJ-J4RKnXfX82rKsYf5Ocx1sd74cY_32JeFQ"/>
          <p:cNvPicPr/>
          <p:nvPr/>
        </p:nvPicPr>
        <p:blipFill>
          <a:blip r:embed="rId1"/>
          <a:stretch/>
        </p:blipFill>
        <p:spPr>
          <a:xfrm>
            <a:off x="0" y="2852640"/>
            <a:ext cx="2612880" cy="4005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0005-005-Vydelitelnaja-sistema-cheloveka"/>
          <p:cNvPicPr/>
          <p:nvPr/>
        </p:nvPicPr>
        <p:blipFill>
          <a:blip r:embed="rId2"/>
          <a:stretch/>
        </p:blipFill>
        <p:spPr>
          <a:xfrm>
            <a:off x="2598840" y="2852640"/>
            <a:ext cx="3671640" cy="4032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ANd9GcQNBI9VTOqpnf7JFjMsivbt_v5FqzTofsUVqWvXz92pWvWV2sJHbA"/>
          <p:cNvPicPr/>
          <p:nvPr/>
        </p:nvPicPr>
        <p:blipFill>
          <a:blip r:embed="rId3"/>
          <a:stretch/>
        </p:blipFill>
        <p:spPr>
          <a:xfrm>
            <a:off x="6215040" y="2879640"/>
            <a:ext cx="2965320" cy="4005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1311120" y="2452680"/>
            <a:ext cx="44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4406760" y="2473200"/>
            <a:ext cx="44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7504200" y="2492280"/>
            <a:ext cx="44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еловек може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41300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Дышать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Питаться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Двигаться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Реагировать на происходящее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Выделять ненужные вещества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Размножатьс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5"/>
          <p:cNvSpPr/>
          <p:nvPr/>
        </p:nvSpPr>
        <p:spPr>
          <a:xfrm flipH="1">
            <a:off x="2050560" y="2421000"/>
            <a:ext cx="108108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8400" y="0"/>
            <a:ext cx="898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реда обитания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4"/>
          <p:cNvSpPr/>
          <p:nvPr/>
        </p:nvSpPr>
        <p:spPr>
          <a:xfrm>
            <a:off x="1512720" y="1406520"/>
            <a:ext cx="6118560" cy="1081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акторы сре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1339920" y="2990880"/>
            <a:ext cx="163656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из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3860640" y="3062160"/>
            <a:ext cx="1540080" cy="36828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им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6766200" y="3567240"/>
            <a:ext cx="1898280" cy="1031400"/>
          </a:xfrm>
          <a:prstGeom prst="rect">
            <a:avLst/>
          </a:prstGeom>
          <a:solidFill>
            <a:srgbClr val="36b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иолог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ив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уще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1" name="Прямая со стрелкой 2"/>
          <p:cNvCxnSpPr>
            <a:stCxn id="207" idx="4"/>
          </p:cNvCxnSpPr>
          <p:nvPr/>
        </p:nvCxnSpPr>
        <p:spPr>
          <a:xfrm>
            <a:off x="4571640" y="2487600"/>
            <a:ext cx="108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6012000" y="2421000"/>
            <a:ext cx="10087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Rectangle 10"/>
          <p:cNvSpPr/>
          <p:nvPr/>
        </p:nvSpPr>
        <p:spPr>
          <a:xfrm>
            <a:off x="1286640" y="3494160"/>
            <a:ext cx="1735200" cy="1465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мперату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лажност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вещени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тмосферн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в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980160" y="3567240"/>
            <a:ext cx="1334520" cy="6998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ществ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мес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6731280" y="3068640"/>
            <a:ext cx="1895400" cy="368280"/>
          </a:xfrm>
          <a:prstGeom prst="rect">
            <a:avLst/>
          </a:prstGeom>
          <a:solidFill>
            <a:srgbClr val="36b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иолог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7600" y="115920"/>
            <a:ext cx="836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доровье и факторы ср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5" descr="&amp;Pcy;&amp;iecy;&amp;rcy;&amp;iecy;&amp;lcy;&amp;ocy;&amp;mcy;&amp;ycy; &amp;kcy;&amp;ocy;&amp;scy;&amp;tcy;&amp;iecy;&amp;jcy;. &amp;Pcy;&amp;rcy;&amp;icy;&amp;zcy;&amp;ncy;&amp;acy;&amp;kcy;&amp;icy;, &amp;pcy;&amp;iecy;&amp;rcy;&amp;vcy;&amp;acy;&amp;yacy; &amp;pcy;&amp;ocy;&amp;mcy;&amp;ocy;&amp;shchcy;&amp;softcy;"/>
          <p:cNvPicPr/>
          <p:nvPr/>
        </p:nvPicPr>
        <p:blipFill>
          <a:blip r:embed="rId1"/>
          <a:stretch/>
        </p:blipFill>
        <p:spPr>
          <a:xfrm>
            <a:off x="36360" y="1197000"/>
            <a:ext cx="2951280" cy="321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ANd9GcTBO5LB3GmMrEKlajqbP8gZz1VSOwKA4bAqVABxij1Kfw6fK4Lx"/>
          <p:cNvPicPr/>
          <p:nvPr/>
        </p:nvPicPr>
        <p:blipFill>
          <a:blip r:embed="rId2"/>
          <a:stretch/>
        </p:blipFill>
        <p:spPr>
          <a:xfrm>
            <a:off x="2612880" y="3905280"/>
            <a:ext cx="3687840" cy="29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2012-01-07_181535"/>
          <p:cNvPicPr/>
          <p:nvPr/>
        </p:nvPicPr>
        <p:blipFill>
          <a:blip r:embed="rId3"/>
          <a:stretch/>
        </p:blipFill>
        <p:spPr>
          <a:xfrm>
            <a:off x="6264360" y="1413000"/>
            <a:ext cx="2771640" cy="3752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>
            <a:off x="3163320" y="3429000"/>
            <a:ext cx="288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Обморожения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314280" y="4314960"/>
            <a:ext cx="21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Перелом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6741720" y="5106960"/>
            <a:ext cx="231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Солнечные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удар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ы узнали, ч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8720" y="980640"/>
            <a:ext cx="91249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Человек принадлежит к царству………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Организм человека состоит из………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Органы образуют…………………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Человек, как и животное………………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На человека действуют…………………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Их можно разделить на………………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Здоровье зависит от………………………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200" y="353880"/>
            <a:ext cx="754380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дберите правильный отв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69228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Земная кора образована:……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Горами, б. горными породами, в. магматическими породами, г. осадочными порода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. Горные породы, которые использует человек называются …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металлами, б. рудами, в. полезными ископаемыми, г. месторожд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.Верхний плодородный слой земной коры –это…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грунт, б. литосфера, в. глина, г. поч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.Способность почвы, удовлетворять потребности растений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эрозия, б. плодородие, в. чернозём, г. горизон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.Почвы не бываю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торфяные, б. глинистые, в. песчаные, г. подзолистые, г. магматическ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AppData\Local\Microsoft\Windows\Temporary Internet Files\Content.IE5\QP4TXIEF\MC900441310[1].png"/>
          <p:cNvPicPr/>
          <p:nvPr/>
        </p:nvPicPr>
        <p:blipFill>
          <a:blip r:embed="rId1"/>
          <a:stretch/>
        </p:blipFill>
        <p:spPr>
          <a:xfrm>
            <a:off x="-108000" y="492120"/>
            <a:ext cx="631800" cy="6332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4359240" y="450720"/>
            <a:ext cx="2370240" cy="8971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9" descr=""/>
          <p:cNvPicPr/>
          <p:nvPr/>
        </p:nvPicPr>
        <p:blipFill>
          <a:blip r:embed="rId3"/>
          <a:stretch/>
        </p:blipFill>
        <p:spPr>
          <a:xfrm>
            <a:off x="542880" y="1841400"/>
            <a:ext cx="2371680" cy="8953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0" descr=""/>
          <p:cNvPicPr/>
          <p:nvPr/>
        </p:nvPicPr>
        <p:blipFill>
          <a:blip r:embed="rId4"/>
          <a:stretch/>
        </p:blipFill>
        <p:spPr>
          <a:xfrm>
            <a:off x="6950160" y="2901960"/>
            <a:ext cx="2376360" cy="89532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1" descr=""/>
          <p:cNvPicPr/>
          <p:nvPr/>
        </p:nvPicPr>
        <p:blipFill>
          <a:blip r:embed="rId5"/>
          <a:stretch/>
        </p:blipFill>
        <p:spPr>
          <a:xfrm>
            <a:off x="7023240" y="3638520"/>
            <a:ext cx="2369880" cy="9032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2" descr=""/>
          <p:cNvPicPr/>
          <p:nvPr/>
        </p:nvPicPr>
        <p:blipFill>
          <a:blip r:embed="rId6"/>
          <a:stretch/>
        </p:blipFill>
        <p:spPr>
          <a:xfrm>
            <a:off x="2846520" y="4413240"/>
            <a:ext cx="2371680" cy="89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user\AppData\Local\Microsoft\Windows\Temporary Internet Files\Content.IE5\QP4TXIEF\MC900441310[1].png"/>
          <p:cNvPicPr/>
          <p:nvPr/>
        </p:nvPicPr>
        <p:blipFill>
          <a:blip r:embed="rId7"/>
          <a:stretch/>
        </p:blipFill>
        <p:spPr>
          <a:xfrm>
            <a:off x="-108000" y="1571760"/>
            <a:ext cx="631800" cy="63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user\AppData\Local\Microsoft\Windows\Temporary Internet Files\Content.IE5\QP4TXIEF\MC900441310[1].png"/>
          <p:cNvPicPr/>
          <p:nvPr/>
        </p:nvPicPr>
        <p:blipFill>
          <a:blip r:embed="rId8"/>
          <a:stretch/>
        </p:blipFill>
        <p:spPr>
          <a:xfrm>
            <a:off x="-108000" y="2924280"/>
            <a:ext cx="631800" cy="63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user\AppData\Local\Microsoft\Windows\Temporary Internet Files\Content.IE5\QP4TXIEF\MC900441310[1].png"/>
          <p:cNvPicPr/>
          <p:nvPr/>
        </p:nvPicPr>
        <p:blipFill>
          <a:blip r:embed="rId9"/>
          <a:stretch/>
        </p:blipFill>
        <p:spPr>
          <a:xfrm>
            <a:off x="-108000" y="3716280"/>
            <a:ext cx="631800" cy="633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user\AppData\Local\Microsoft\Windows\Temporary Internet Files\Content.IE5\QP4TXIEF\MC900441310[1].png"/>
          <p:cNvPicPr/>
          <p:nvPr/>
        </p:nvPicPr>
        <p:blipFill>
          <a:blip r:embed="rId10"/>
          <a:stretch/>
        </p:blipFill>
        <p:spPr>
          <a:xfrm>
            <a:off x="-108000" y="4437000"/>
            <a:ext cx="631800" cy="633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>
            <a:hlinkClick r:id="rId11" action="ppaction://hlinksldjump"/>
          </p:cNvPr>
          <p:cNvSpPr/>
          <p:nvPr/>
        </p:nvSpPr>
        <p:spPr>
          <a:xfrm>
            <a:off x="-181080" y="-171360"/>
            <a:ext cx="9506160" cy="727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1763640" y="105264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3780000" y="24922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Прямоугольник 17"/>
          <p:cNvSpPr/>
          <p:nvPr/>
        </p:nvSpPr>
        <p:spPr>
          <a:xfrm>
            <a:off x="4572000" y="3500280"/>
            <a:ext cx="11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Прямоугольник 18"/>
          <p:cNvSpPr/>
          <p:nvPr/>
        </p:nvSpPr>
        <p:spPr>
          <a:xfrm>
            <a:off x="1692360" y="4292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Прямоугольник 19"/>
          <p:cNvSpPr/>
          <p:nvPr/>
        </p:nvSpPr>
        <p:spPr>
          <a:xfrm>
            <a:off x="179280" y="5373720"/>
            <a:ext cx="27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Умножение 5"/>
          <p:cNvSpPr/>
          <p:nvPr/>
        </p:nvSpPr>
        <p:spPr>
          <a:xfrm>
            <a:off x="63360" y="189000"/>
            <a:ext cx="8829720" cy="6453000"/>
          </a:xfrm>
          <a:custGeom>
            <a:avLst/>
            <a:gdLst/>
            <a:ahLst/>
            <a:rect l="l" t="t" r="r" b="b"/>
            <a:pathLst>
              <a:path w="8828565" h="6453336">
                <a:moveTo>
                  <a:pt x="1672553" y="2162613"/>
                </a:moveTo>
                <a:lnTo>
                  <a:pt x="2568248" y="937247"/>
                </a:lnTo>
                <a:lnTo>
                  <a:pt x="4414283" y="2286626"/>
                </a:lnTo>
                <a:lnTo>
                  <a:pt x="6260317" y="937247"/>
                </a:lnTo>
                <a:lnTo>
                  <a:pt x="7156012" y="2162613"/>
                </a:lnTo>
                <a:lnTo>
                  <a:pt x="5700319" y="3226668"/>
                </a:lnTo>
                <a:lnTo>
                  <a:pt x="7156012" y="4290723"/>
                </a:lnTo>
                <a:lnTo>
                  <a:pt x="6260317" y="5516089"/>
                </a:lnTo>
                <a:lnTo>
                  <a:pt x="4414283" y="4166710"/>
                </a:lnTo>
                <a:lnTo>
                  <a:pt x="2568248" y="5516089"/>
                </a:lnTo>
                <a:lnTo>
                  <a:pt x="1672553" y="4290723"/>
                </a:lnTo>
                <a:lnTo>
                  <a:pt x="3128246" y="3226668"/>
                </a:lnTo>
                <a:lnTo>
                  <a:pt x="1672553" y="21626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516640"/>
            <a:ext cx="2035080" cy="1092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>
            <a:hlinkClick r:id="rId6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ямоугольник 13">
            <a:hlinkClick r:id="rId7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Прямоугольник 14">
            <a:hlinkClick r:id="rId8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оугольник 15">
            <a:hlinkClick r:id="rId9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Прямоугольник 16">
            <a:hlinkClick r:id="rId10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7805880" y="5149800"/>
            <a:ext cx="1374480" cy="13748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108000" y="1052640"/>
            <a:ext cx="7697880" cy="1152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34920" y="5300640"/>
            <a:ext cx="76341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21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22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23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24">
            <a:hlinkClick r:id="rId10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5">
            <a:hlinkClick r:id="rId11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Управляющая кнопка: далее 26">
            <a:hlinkClick r:id="rId12" action="ppaction://hlinksldjump"/>
          </p:cNvPr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2116080" y="5437080"/>
            <a:ext cx="1376280" cy="13766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108000" y="2205000"/>
            <a:ext cx="5898960" cy="57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15"/>
          <p:cNvSpPr/>
          <p:nvPr/>
        </p:nvSpPr>
        <p:spPr>
          <a:xfrm>
            <a:off x="3995640" y="4797360"/>
            <a:ext cx="540072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Прямоугольник 20"/>
          <p:cNvSpPr/>
          <p:nvPr/>
        </p:nvSpPr>
        <p:spPr>
          <a:xfrm>
            <a:off x="34920" y="5334120"/>
            <a:ext cx="169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Умножение 21"/>
          <p:cNvSpPr/>
          <p:nvPr/>
        </p:nvSpPr>
        <p:spPr>
          <a:xfrm>
            <a:off x="623880" y="511200"/>
            <a:ext cx="7835760" cy="5581800"/>
          </a:xfrm>
          <a:custGeom>
            <a:avLst/>
            <a:gdLst/>
            <a:ahLst/>
            <a:rect l="l" t="t" r="r" b="b"/>
            <a:pathLst>
              <a:path w="7835778" h="5581340">
                <a:moveTo>
                  <a:pt x="1501160" y="1875109"/>
                </a:moveTo>
                <a:lnTo>
                  <a:pt x="2262756" y="805887"/>
                </a:lnTo>
                <a:lnTo>
                  <a:pt x="3917889" y="1984821"/>
                </a:lnTo>
                <a:lnTo>
                  <a:pt x="5573022" y="805887"/>
                </a:lnTo>
                <a:lnTo>
                  <a:pt x="6334618" y="1875109"/>
                </a:lnTo>
                <a:lnTo>
                  <a:pt x="5049240" y="2790670"/>
                </a:lnTo>
                <a:lnTo>
                  <a:pt x="6334618" y="3706231"/>
                </a:lnTo>
                <a:lnTo>
                  <a:pt x="5573022" y="4775453"/>
                </a:lnTo>
                <a:lnTo>
                  <a:pt x="3917889" y="3596519"/>
                </a:lnTo>
                <a:lnTo>
                  <a:pt x="2262756" y="4775453"/>
                </a:lnTo>
                <a:lnTo>
                  <a:pt x="1501160" y="3706231"/>
                </a:lnTo>
                <a:lnTo>
                  <a:pt x="2786538" y="2790670"/>
                </a:lnTo>
                <a:lnTo>
                  <a:pt x="1501160" y="18751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22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оугольник 23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Прямоугольник 24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Прямоугольник 25">
            <a:hlinkClick r:id="rId10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Прямоугольник 26">
            <a:hlinkClick r:id="rId11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Управляющая кнопка: далее 27">
            <a:hlinkClick r:id="rId12" action="ppaction://hlinksldjump"/>
          </p:cNvPr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4276800" y="5437080"/>
            <a:ext cx="1374840" cy="1376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108000" y="2708280"/>
            <a:ext cx="5904000" cy="57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15"/>
          <p:cNvSpPr/>
          <p:nvPr/>
        </p:nvSpPr>
        <p:spPr>
          <a:xfrm>
            <a:off x="5958000" y="4797360"/>
            <a:ext cx="3438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13"/>
          <p:cNvSpPr/>
          <p:nvPr/>
        </p:nvSpPr>
        <p:spPr>
          <a:xfrm>
            <a:off x="34920" y="5334120"/>
            <a:ext cx="3835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Умножение 16"/>
          <p:cNvSpPr/>
          <p:nvPr/>
        </p:nvSpPr>
        <p:spPr>
          <a:xfrm>
            <a:off x="1484280" y="666720"/>
            <a:ext cx="6624720" cy="558180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Прямоугольник 22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Прямоугольник 23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Прямоугольник 24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оугольник 25">
            <a:hlinkClick r:id="rId10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26">
            <a:hlinkClick r:id="rId11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Управляющая кнопка: далее 27">
            <a:hlinkClick r:id="rId12" action="ppaction://hlinksldjump"/>
          </p:cNvPr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179280" y="5437080"/>
            <a:ext cx="1376640" cy="13766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108000" y="3357720"/>
            <a:ext cx="5040360" cy="4316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Умножение 14"/>
          <p:cNvSpPr/>
          <p:nvPr/>
        </p:nvSpPr>
        <p:spPr>
          <a:xfrm>
            <a:off x="1258920" y="514440"/>
            <a:ext cx="662616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оугольник 15"/>
          <p:cNvSpPr/>
          <p:nvPr/>
        </p:nvSpPr>
        <p:spPr>
          <a:xfrm>
            <a:off x="1835280" y="4797360"/>
            <a:ext cx="75610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Умножение 16" hidden="1"/>
          <p:cNvSpPr/>
          <p:nvPr/>
        </p:nvSpPr>
        <p:spPr>
          <a:xfrm>
            <a:off x="1484280" y="666720"/>
            <a:ext cx="6624720" cy="558180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2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3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4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25"/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26"/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Управляющая кнопка: далее 27"/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6221520" y="5370480"/>
            <a:ext cx="1374840" cy="13748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"/>
          <p:cNvSpPr/>
          <p:nvPr/>
        </p:nvSpPr>
        <p:spPr>
          <a:xfrm>
            <a:off x="108000" y="3860640"/>
            <a:ext cx="6192720" cy="57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Прямоугольник 15"/>
          <p:cNvSpPr/>
          <p:nvPr/>
        </p:nvSpPr>
        <p:spPr>
          <a:xfrm>
            <a:off x="7669080" y="4797360"/>
            <a:ext cx="17272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13"/>
          <p:cNvSpPr/>
          <p:nvPr/>
        </p:nvSpPr>
        <p:spPr>
          <a:xfrm>
            <a:off x="34920" y="5334120"/>
            <a:ext cx="592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Умножение 16"/>
          <p:cNvSpPr/>
          <p:nvPr/>
        </p:nvSpPr>
        <p:spPr>
          <a:xfrm>
            <a:off x="1484280" y="666720"/>
            <a:ext cx="6624720" cy="558180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Прямоугольник 22"/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Прямоугольник 23"/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Прямоугольник 24"/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Прямоугольник 25"/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Прямоугольник 26"/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Управляющая кнопка: далее 27"/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еловек и его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Мы должн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онять к царству каких организмов принадлежит челов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ыяснить какими свойствами обладает челов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знать из чего состоит челов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онять, от чего зависит здоровье челове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6:03:05Z</dcterms:created>
  <dc:creator>user</dc:creator>
  <dc:description/>
  <dc:language>en-US</dc:language>
  <cp:lastModifiedBy>user</cp:lastModifiedBy>
  <dcterms:modified xsi:type="dcterms:W3CDTF">2013-03-14T11:36:14Z</dcterms:modified>
  <cp:revision>46</cp:revision>
  <dc:subject/>
  <dc:title>Подберите правильный ответ</dc:title>
</cp:coreProperties>
</file>